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B45-181B-404B-809A-0B5A50F1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98E-4115-44ED-B719-BC153EE8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170-3FF7-49CD-8222-E29ADF6A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570-4ADC-4B33-BB06-A0E79BF0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BFA-1708-40BB-9E36-1A664C98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33D-BE10-4000-B990-0F1CF036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FC6-7A33-470E-AE08-015AF2E7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D60-B986-4999-AAB4-CCEC1978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E40-696D-4FD0-BB97-B690B427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CBD-26FB-4DE7-A265-4B60B903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88C-E96C-4EF8-901D-A38B7323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CCC-2D17-4F81-9396-25A8CE31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05D7-64D2-455A-98DB-850E115FF8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80880" y="34956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R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25146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Lea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60948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l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0880" y="159084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133720" y="45720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ese take in  W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ater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 and M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inerals 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rom the soil.  They also anchor the plant into the grou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133720" y="161928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the plant makes its food by the process of  P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hotosynthes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33720" y="2610000"/>
            <a:ext cx="4190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  R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eproduction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 takes place and seeds are ma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133720" y="358452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transports food and water around the plant.  It also holds the leaves up to face the L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igh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80880" y="791532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R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80880" y="693432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Lea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80880" y="50292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l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80880" y="60102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33720" y="487692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ese take in W………………………….. and M…………………………….. from the soil.  They also anchor the plant into the grou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2133720" y="603900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the plant makes its food by the process of  P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2133720" y="702936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  R………………………………………. takes place and seeds are ma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133720" y="800424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transports food and water around the plant.  It also holds the leaves up to face the L…………………………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Łącznik prosty ze strzałką 18"/>
          <p:cNvCxnSpPr>
            <a:stCxn id="43" idx="3"/>
            <a:endCxn id="47" idx="1"/>
          </p:cNvCxnSpPr>
          <p:nvPr/>
        </p:nvCxnSpPr>
        <p:spPr>
          <a:xfrm>
            <a:off x="1676520" y="732600"/>
            <a:ext cx="457560" cy="20008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8" name="Łącznik prosty ze strzałką 20"/>
          <p:cNvCxnSpPr/>
          <p:nvPr/>
        </p:nvCxnSpPr>
        <p:spPr>
          <a:xfrm>
            <a:off x="1641960" y="2000160"/>
            <a:ext cx="500760" cy="18583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9" name="Łącznik prosty ze strzałką 22"/>
          <p:cNvCxnSpPr>
            <a:endCxn id="46" idx="1"/>
          </p:cNvCxnSpPr>
          <p:nvPr/>
        </p:nvCxnSpPr>
        <p:spPr>
          <a:xfrm flipV="1">
            <a:off x="1642680" y="1818360"/>
            <a:ext cx="491400" cy="10396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60" name="Łącznik prosty ze strzałką 24"/>
          <p:cNvCxnSpPr>
            <a:stCxn id="41" idx="3"/>
          </p:cNvCxnSpPr>
          <p:nvPr/>
        </p:nvCxnSpPr>
        <p:spPr>
          <a:xfrm flipV="1">
            <a:off x="1676520" y="785160"/>
            <a:ext cx="396000" cy="28339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1:22:13Z</dcterms:created>
  <dc:creator>Gemma Young</dc:creator>
  <dc:description/>
  <dc:language>en-US</dc:language>
  <cp:lastModifiedBy>oskar jaskiewicz</cp:lastModifiedBy>
  <dcterms:modified xsi:type="dcterms:W3CDTF">2014-08-20T06:35:57Z</dcterms:modified>
  <cp:revision>5</cp:revision>
  <dc:subject/>
  <dc:title>PowerPoint Presentation</dc:title>
</cp:coreProperties>
</file>